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027-5740-409D-B116-850F4B6A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B31-25A0-4D0F-97CF-797DEA23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6D0-8A50-42B4-855B-E3E48EE5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2F5-821F-4693-9E4E-53362019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42C-3A25-4F05-AFD9-A4F648DA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DEA-AF13-48FE-A078-75B3418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EAF-FA2B-46F3-97FC-C78DD98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247-CEEE-4014-A8FF-B039AE4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639-E736-4E8D-872D-FB85A451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A6B-5013-40BC-BCF4-0B64475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C70-AA46-4F5B-B49A-D26F593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EE9-0816-431D-8964-DCF474A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2E4-2574-477F-AE4E-1E658C8863F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64 Buď tebe sláv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silu v slabosti.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Zem sa vtedy chvela,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keď si zomieral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čoskoro však znela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nebom pieseň chvá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Žehnaj ľud svoj stále,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nauč tak nás žiť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nech ťa neustále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smieme velebiť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silu v slabos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Vždy ti veriť chceme,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tebe patriť len,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 veď len s tebou smieme </a:t>
            </a:r>
            <a:br>
              <a:rPr sz="5000"/>
            </a:br>
            <a:r>
              <a:rPr b="1" lang="sk-SK" sz="5000" spc="-1" strike="noStrike">
                <a:solidFill>
                  <a:srgbClr val="ffffff"/>
                </a:solidFill>
                <a:latin typeface="Arial"/>
              </a:rPr>
              <a:t>prísť na novú z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13:47Z</dcterms:modified>
  <cp:revision>24</cp:revision>
  <dc:subject/>
  <dc:title>Je veľký náš Pán, on slávy je Kráľ Nech do všetkých strán  spev vrúcnych znie chvál.</dc:title>
</cp:coreProperties>
</file>